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BF7-5929-4E64-8227-063D5610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85E-E1E8-4270-B149-74F7D2CB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0A5-4DAF-4D67-A9FA-87496606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3B9-6E62-42DE-9F7A-121703D9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9C62F-528D-4A7F-BBEB-9DA1F174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E8BC3-84E8-406F-A9A1-FA13E997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1E267-FA10-40F3-9A36-BBD857E1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F956A-7BD8-4231-A0C4-FC1985AD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18849-2763-4041-9312-2ED9AF1E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E48AF-2D8C-4E17-92F2-4C2D0949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18FC9-2A50-4258-B469-88C5471C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A1A-BE21-4312-9B8B-A2D2099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1B60D-7317-43F2-A973-C278E905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0D56D-3952-4591-8E50-15903D9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F7EEF-2C8C-42A3-AD99-224A3033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F025C-FCD0-46D9-9D3B-8281CAA1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B3B54-22ED-4FA1-A996-098825BD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81DF-1AB5-4788-8056-AEE7C2EB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9C46-2BA2-4DCC-9AD2-B9181233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F6DF-FF05-4439-B9DE-4F7D6824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D7DD-B21F-49D2-BBCB-131A2186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FF7A-7C93-427C-ACE3-760D32DD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1B6-50BE-4D40-B3E5-9504285E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C0C8-40B9-4979-9076-D849F9E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4D07-6E5D-4148-A679-7C472E9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B1E9-908B-4AFE-B779-64DEA636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7957-8A9E-4A58-AC47-ADF6DDB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F7FB-F354-4C4C-B6F7-54436E71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9791-8D52-45CD-A928-5729AE7F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AFAB-5250-4198-96DD-82FB2B49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28E44-7B7E-4423-964F-DA5119DD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67B965-C85F-4DD3-BB64-01DB2A1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6FAD2-7674-4FE5-8B03-635E507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1AD-D546-40C7-A611-8B2C9A53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53F6D-6F0B-4BDA-B6BE-F274FB50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23B1C-8302-436D-8CC4-E55B5CC9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CF15F-8E1F-40A2-9045-981B3FDC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37BDD-39B3-41AB-BC09-CDEBDD4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609B1F-C277-484A-95B5-35E1ECFF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9CB5B-65CC-46EF-A759-33CE16EE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943C1-5D1D-47D6-9C06-DCE7269A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C2921-FE9B-41B9-8E42-0718FC1B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756CA-7D44-4729-9823-CDE93296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196-23E8-4F30-9FFE-E68E4F10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244-547E-4C2F-8227-F824DC30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2C3-A50C-4B9E-A19C-A24A130F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BE9-0136-4BB5-8088-3703805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C0D-260B-4AF1-9940-C9F25FC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3AB2-AE7C-4E9E-B383-7F592EF3DD6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D343-0BD2-4EAD-9081-4C5ECD42238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A29D-26ED-470C-8335-A074A0B5118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A240-12CA-422C-85FA-A888D101643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414360" y="-133200"/>
            <a:ext cx="8315280" cy="24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1\Desktop\Сухомлинский 3.jpg"/>
          <p:cNvPicPr/>
          <p:nvPr/>
        </p:nvPicPr>
        <p:blipFill>
          <a:blip r:embed="rId2"/>
          <a:stretch/>
        </p:blipFill>
        <p:spPr>
          <a:xfrm>
            <a:off x="380880" y="2438280"/>
            <a:ext cx="3733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Женя умерла 28 декабря, в 12 часов 30 минут утра 1941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Бабушка умерла 25 января, в 3 часа дня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Лека умер 17 марта, в 6 часов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Дядя Вася умер 13 апреля, в 2 часа ночи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– 13 мая, в 7 часов 30 минут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Савичевы умерли. Умерли вс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Таня»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Содержимое 5" descr="0_3e22_41fdc774_XL.jpeg"/>
          <p:cNvPicPr/>
          <p:nvPr/>
        </p:nvPicPr>
        <p:blipFill>
          <a:blip r:embed="rId1"/>
          <a:stretch/>
        </p:blipFill>
        <p:spPr>
          <a:xfrm>
            <a:off x="685800" y="380880"/>
            <a:ext cx="579132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leningrad"/>
          <p:cNvPicPr/>
          <p:nvPr/>
        </p:nvPicPr>
        <p:blipFill>
          <a:blip r:embed="rId1"/>
          <a:stretch/>
        </p:blipFill>
        <p:spPr>
          <a:xfrm>
            <a:off x="0" y="0"/>
            <a:ext cx="3502080" cy="487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9895417b14c"/>
          <p:cNvPicPr/>
          <p:nvPr/>
        </p:nvPicPr>
        <p:blipFill>
          <a:blip r:embed="rId2"/>
          <a:stretch/>
        </p:blipFill>
        <p:spPr>
          <a:xfrm>
            <a:off x="2819520" y="3195720"/>
            <a:ext cx="5562360" cy="366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73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пуговица от маминой кофты. А в печи две булки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теплого хлеба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разрывали немецкие овчарки, а он кричал: «Сына уведите, сына уведите, чтоб не смотрел…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не сразу умерла. Она долго лежала на траве, открыла глаза: «Ира мне надо тебе рассказать…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, я не хочу… - мне казалось, что если она мне скажет то, что хочет, она умрет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не прячьте мою маму в  ямку она проснется, и мы с ней пойдем домой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вытолкнули на улицу, и я бежала за ним по снегу босиком и кричала: «Папочка, папочка». А бабушка причитала дома: «Где же бог, куда он прячется?». Бабушка не смогла пережить такое горе, плакала все тише и тише и через две недели умерла на печке, а рядом спала я и обнимала ее, мертвую. В доме больше никого не осталось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          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С.Алексиевич «Последние свидетели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21760" cy="97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\Desktop\4d733978f33d8494ce5a55a0481.jpg"/>
          <p:cNvPicPr/>
          <p:nvPr/>
        </p:nvPicPr>
        <p:blipFill>
          <a:blip r:embed="rId2"/>
          <a:stretch/>
        </p:blipFill>
        <p:spPr>
          <a:xfrm>
            <a:off x="380880" y="1752480"/>
            <a:ext cx="4114800" cy="3622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\Desktop\помощь.jpg"/>
          <p:cNvPicPr/>
          <p:nvPr/>
        </p:nvPicPr>
        <p:blipFill>
          <a:blip r:embed="rId3"/>
          <a:stretch/>
        </p:blipFill>
        <p:spPr>
          <a:xfrm>
            <a:off x="4648320" y="1752480"/>
            <a:ext cx="4267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075"/>
          <p:cNvPicPr/>
          <p:nvPr/>
        </p:nvPicPr>
        <p:blipFill>
          <a:blip r:embed="rId1"/>
          <a:stretch/>
        </p:blipFill>
        <p:spPr>
          <a:xfrm>
            <a:off x="4495680" y="380880"/>
            <a:ext cx="4343400" cy="315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V_Leningrade"/>
          <p:cNvPicPr/>
          <p:nvPr/>
        </p:nvPicPr>
        <p:blipFill>
          <a:blip r:embed="rId2"/>
          <a:stretch/>
        </p:blipFill>
        <p:spPr>
          <a:xfrm>
            <a:off x="304920" y="3657600"/>
            <a:ext cx="4190760" cy="2962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 тех, что родился в 1923- 1924 гг.и в 1941 году со школьной скамьи шагнул на фронт к концу войны в живых осталось только 3 %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о время Второй мировой войны всего в мире погибло 13 миллионов дет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гибали дети – Граждане мир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1\Desktop\победа.jpg"/>
          <p:cNvPicPr/>
          <p:nvPr/>
        </p:nvPicPr>
        <p:blipFill>
          <a:blip r:embed="rId1"/>
          <a:stretch/>
        </p:blipFill>
        <p:spPr>
          <a:xfrm>
            <a:off x="430200" y="1055520"/>
            <a:ext cx="3429000" cy="28958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120492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8c891"/>
                </a:solidFill>
                <a:latin typeface="Arial"/>
              </a:rPr>
              <a:t>Но помнят они и побед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C:\Users\1\Desktop\победа 2.jpg"/>
          <p:cNvPicPr/>
          <p:nvPr/>
        </p:nvPicPr>
        <p:blipFill>
          <a:blip r:embed="rId2"/>
          <a:stretch/>
        </p:blipFill>
        <p:spPr>
          <a:xfrm>
            <a:off x="5281560" y="1055520"/>
            <a:ext cx="3328920" cy="289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1\Desktop\День победы.jpg"/>
          <p:cNvPicPr/>
          <p:nvPr/>
        </p:nvPicPr>
        <p:blipFill>
          <a:blip r:embed="rId3"/>
          <a:stretch/>
        </p:blipFill>
        <p:spPr>
          <a:xfrm>
            <a:off x="2438280" y="4114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Пусть дети повсюду встречают рассвет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Улыбкой ясной спокойно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Давайте же скажем все вместе –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, нет,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 – грабительским войнам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яркое сол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инее небо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вет в око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колосья хлеба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Мы нарисуем осенние листья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Школу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Руче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Друзей беспокойных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И зачеркнем нашей общей кистью выстрелы, взрывы, огонь и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«</a:t>
            </a: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Ты рожден человеком, но Человеком надо стать. Настоящий человек-это дух человеческий, который выражается в убеждениях и чувствах, воле и стремлениях, в отношении к людям и к самому себе, в способности любить и ненавидеть, видеть в мечте идеал и бороться за него». В.А.Сухомлински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920" y="3581280"/>
            <a:ext cx="4648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началась, мы были еще дети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чилась война, мы уже взрослые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.Коротаева, 14 л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Picture 5" descr="nevinn_10"/>
          <p:cNvPicPr/>
          <p:nvPr/>
        </p:nvPicPr>
        <p:blipFill>
          <a:blip r:embed="rId1"/>
          <a:stretch/>
        </p:blipFill>
        <p:spPr>
          <a:xfrm>
            <a:off x="4800600" y="3332160"/>
            <a:ext cx="3505320" cy="2889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Users\1\Desktop\сухомлинский 2.jpg"/>
          <p:cNvPicPr/>
          <p:nvPr/>
        </p:nvPicPr>
        <p:blipFill>
          <a:blip r:embed="rId2"/>
          <a:stretch/>
        </p:blipFill>
        <p:spPr>
          <a:xfrm>
            <a:off x="55440" y="125280"/>
            <a:ext cx="3907080" cy="2998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4419720" y="8398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На любви к детям держится м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94840" cy="8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54"/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7760" y="304560"/>
            <a:ext cx="5638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Такою все дышало тишин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Что вся земля еще спала, казалос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Кто знал, что между миром и войно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Всего каких-то пять минут осталось.</a:t>
            </a: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С.Щипаче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7" descr="80350cbddde9"/>
          <p:cNvPicPr/>
          <p:nvPr/>
        </p:nvPicPr>
        <p:blipFill>
          <a:blip r:embed="rId1"/>
          <a:srcRect l="6278" t="5145" r="0" b="5524"/>
          <a:stretch/>
        </p:blipFill>
        <p:spPr>
          <a:xfrm>
            <a:off x="685800" y="2286000"/>
            <a:ext cx="518148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1\Desktop\Война.jpg"/>
          <p:cNvPicPr/>
          <p:nvPr/>
        </p:nvPicPr>
        <p:blipFill>
          <a:blip r:embed="rId2"/>
          <a:stretch/>
        </p:blipFill>
        <p:spPr>
          <a:xfrm>
            <a:off x="838080" y="1870200"/>
            <a:ext cx="7620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есть на свете дороже дете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Что есть  самое дорогое  у любого народа? У любой матер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ебенок, прошедший через ужас войны, ребенок л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Кто возвратит ему детств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кто подсчитает, сколько детей убивает войн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таких были тысячи. Что помнят они? Что могут рассказать? Что могли понять, увидеть, запомнить де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1760" cy="962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1\Desktop\дети 323.jpg"/>
          <p:cNvPicPr/>
          <p:nvPr/>
        </p:nvPicPr>
        <p:blipFill>
          <a:blip r:embed="rId2"/>
          <a:stretch/>
        </p:blipFill>
        <p:spPr>
          <a:xfrm>
            <a:off x="15228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1\Desktop\дети война.jpg"/>
          <p:cNvPicPr/>
          <p:nvPr/>
        </p:nvPicPr>
        <p:blipFill>
          <a:blip r:embed="rId3"/>
          <a:stretch/>
        </p:blipFill>
        <p:spPr>
          <a:xfrm>
            <a:off x="5943600" y="1077840"/>
            <a:ext cx="3048120" cy="265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1\Desktop\31108.jpg"/>
          <p:cNvPicPr/>
          <p:nvPr/>
        </p:nvPicPr>
        <p:blipFill>
          <a:blip r:embed="rId4"/>
          <a:stretch/>
        </p:blipFill>
        <p:spPr>
          <a:xfrm>
            <a:off x="3657600" y="1143000"/>
            <a:ext cx="192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1\Desktop\i_181.jpg"/>
          <p:cNvPicPr/>
          <p:nvPr/>
        </p:nvPicPr>
        <p:blipFill>
          <a:blip r:embed="rId5"/>
          <a:stretch/>
        </p:blipFill>
        <p:spPr>
          <a:xfrm>
            <a:off x="331920" y="4064040"/>
            <a:ext cx="3630600" cy="239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Users\1\Desktop\4275994_orig.jpg"/>
          <p:cNvPicPr/>
          <p:nvPr/>
        </p:nvPicPr>
        <p:blipFill>
          <a:blip r:embed="rId6"/>
          <a:stretch/>
        </p:blipFill>
        <p:spPr>
          <a:xfrm>
            <a:off x="5105520" y="4064040"/>
            <a:ext cx="3611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1\Desktop\img28.jpg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fot837"/>
          <p:cNvPicPr/>
          <p:nvPr/>
        </p:nvPicPr>
        <p:blipFill>
          <a:blip r:embed="rId1"/>
          <a:stretch/>
        </p:blipFill>
        <p:spPr>
          <a:xfrm>
            <a:off x="504720" y="2567160"/>
            <a:ext cx="3381480" cy="335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684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 блокадном Ленинграде оставалось 2 млн. 544 тысяч жителей, в том числе 400 тысяч дет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3886200" y="251460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Ленинградские дети», - когда звучали эти слова, у человека сжималось серд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о звучало как пароль – «ленинградские дети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Komp</cp:lastModifiedBy>
  <dcterms:modified xsi:type="dcterms:W3CDTF">2018-09-10T08:48:37Z</dcterms:modified>
  <cp:revision>24</cp:revision>
  <dc:subject/>
  <dc:title>МЕТОДИЧЕСКАЯ РАЗРАБОТКА ВНЕКЛАССНОГО МЕРОПРИЯТИЯ   «Детство, опаленное войной»</dc:title>
</cp:coreProperties>
</file>